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644-965C-4D3E-A19C-A26C8399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143-A005-4C0F-BD93-53E23F8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986-5AD1-4CF4-B7EE-C715EC06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455-0010-438D-821D-EE70BF93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45EA-2913-490A-8C05-FFBEDE04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F899-5F0C-46B7-B7C5-024EA68D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09EA-479F-40F0-85A8-EBA1A726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B35-0874-4C51-9D62-111B958A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280D-4F07-4E6A-863A-BB0E6BC8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2357-31F6-46A4-8175-B75E23C2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3F7-A001-41AA-87A8-F73B41B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1B4-5541-4D3B-8977-9844D358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ED9D-76D6-4146-8EA4-40D41A7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865-DC12-4B4E-A5F5-CEA8971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F2DB-C0E8-4705-B0AA-7C0DFE8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985A-8DE5-48AD-98EA-F80D4E6D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527-219B-4E58-A4BF-F2D576FC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096-6A2E-457F-B530-B9EE4A46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9A5-13AE-41DE-8B8B-6776CE0C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1C8-E0B7-43EC-8DF7-61614F9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51A-3854-4B2D-83C8-50F3275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DBD-B130-4FF6-89CD-A563063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C5C-4472-4BD5-8802-66DB22C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F06-190D-4668-9010-654512D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B209-B353-4067-91A1-1F071A24E2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FC1B-8E14-49B8-80DF-AC4183FFBC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ИМ БЫЛ ПЕТР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89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227640" y="64911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ЮНОСТЬ П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50"/>
                            </p:stCondLst>
                            <p:childTnLst>
                              <p:par>
                                <p:cTn id="1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3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148000" y="836640"/>
            <a:ext cx="3609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ИТЕЛЕМ ГОСУД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ЛДА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Я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ОИТЕЛ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НЕ ЖАЛЕЛ НИ СЕБЯ, НИ СВОИХ ПОДДА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4290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08:06Z</dcterms:created>
  <dc:creator>Администратор</dc:creator>
  <dc:description/>
  <dc:language>en-US</dc:language>
  <cp:lastModifiedBy>Марина</cp:lastModifiedBy>
  <dcterms:modified xsi:type="dcterms:W3CDTF">2007-12-17T17:01:54Z</dcterms:modified>
  <cp:revision>3</cp:revision>
  <dc:subject/>
  <dc:title>КАКИМ БЫЛ ПЕТР I ?</dc:title>
</cp:coreProperties>
</file>